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3978-FCDC-41DE-8D0D-191E1240C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45FD-E527-4CC5-94AF-5F2797514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92E5-9791-4569-AF50-0FE6DFBF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95C3-C5CA-4A40-BBB3-ED27EF58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1704-808C-484E-9581-28273E23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D3DD-8856-4429-B989-A0CA5AA46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289A-ABAA-4320-A17A-5D5AE519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8634-6376-46ED-A202-EBDDDBB7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F5E7-79DB-4CDD-9B11-869524DE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A810-819D-42BE-A647-B63045AF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131-3DD4-4B62-88AC-8FB545621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370D-F364-45FA-A6D1-08C01CAA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A549-3F1C-47F6-9B75-4EBB31717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AD81-2204-4F44-B793-653F5CB5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8F99-7E7D-458A-8CF7-412AB3F1A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3A4C-8337-42D7-9F4F-48CDC296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99DF-70D6-4279-9943-81FDF5FA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99FF-24E0-4749-ABDE-905FA66C6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1030-EF75-4BDA-9807-5D893760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E440-F770-4898-B948-FC0E9C68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6E7E-895F-4C67-A69C-BAE125676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777-0763-4C91-AC91-0128AEB6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54D-3101-4713-B27E-814D3041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FD1-A7A3-405D-8FFB-E28DE403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245-454D-4C20-9F7A-EB39ED68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CF1-1A05-4127-A9C1-BB8FB71D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B21-0259-4CCF-8C16-69DC2B6A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86C-B38C-44FE-8D9E-CBA674C0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D4E-2FA6-481C-A5EA-6C4B76A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A95-F786-4BF2-AB7E-B58079B5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8A5-4F2F-4892-87A0-C3555069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F51-B1DC-4661-A93C-348647B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F39-BF1D-4812-BB4C-FCA5CB6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C24-EED5-445A-8FD0-4E24A31B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Q8A5gRe_Dw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Medieval Period Monarc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(1066-148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Henry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6-12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King Jo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years old but didn’t rule until he came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ckle ty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king henry III"/>
          <p:cNvPicPr/>
          <p:nvPr/>
        </p:nvPicPr>
        <p:blipFill>
          <a:blip r:embed="rId1"/>
          <a:stretch/>
        </p:blipFill>
        <p:spPr>
          <a:xfrm>
            <a:off x="5943600" y="175248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Edward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72-1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Henr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Wales a part of the English realm in 1283 (Prince of W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Parliament – accepted the idea that laws could not be made nor taxes levied without the consent of Parli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king edward I"/>
          <p:cNvPicPr/>
          <p:nvPr/>
        </p:nvPicPr>
        <p:blipFill>
          <a:blip r:embed="rId1"/>
          <a:stretch/>
        </p:blipFill>
        <p:spPr>
          <a:xfrm>
            <a:off x="5867280" y="1752480"/>
            <a:ext cx="2876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Edward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07-1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Edward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etent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(by Parliament) to give up the throne in 13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king edward II"/>
          <p:cNvPicPr/>
          <p:nvPr/>
        </p:nvPicPr>
        <p:blipFill>
          <a:blip r:embed="rId1"/>
          <a:stretch/>
        </p:blipFill>
        <p:spPr>
          <a:xfrm>
            <a:off x="5715000" y="1676520"/>
            <a:ext cx="2895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Edward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27-13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Edward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Hundred Years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ed the French throne b/c his mother was the sister of 3 French k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gue reduced the nation’s population by 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ng edward III"/>
          <p:cNvPicPr/>
          <p:nvPr/>
        </p:nvPicPr>
        <p:blipFill>
          <a:blip r:embed="rId1"/>
          <a:stretch/>
        </p:blipFill>
        <p:spPr>
          <a:xfrm>
            <a:off x="6014880" y="1828800"/>
            <a:ext cx="2671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Richard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77-13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king at ag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sed by uncle, John of G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le land from Henry Bolingbroke, son of John of Ga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THROWN; died in prison; probably mu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king richard II"/>
          <p:cNvPicPr/>
          <p:nvPr/>
        </p:nvPicPr>
        <p:blipFill>
          <a:blip r:embed="rId1"/>
          <a:stretch/>
        </p:blipFill>
        <p:spPr>
          <a:xfrm>
            <a:off x="6019920" y="15238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Henry IV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(first LANCAST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99-14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Bolingbroke – overthrew Ric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by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arliamenta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king henry IV"/>
          <p:cNvPicPr/>
          <p:nvPr/>
        </p:nvPicPr>
        <p:blipFill>
          <a:blip r:embed="rId1"/>
          <a:stretch/>
        </p:blipFill>
        <p:spPr>
          <a:xfrm>
            <a:off x="5715000" y="1752480"/>
            <a:ext cx="2590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Henry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13-14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Henry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ried daughter of Charles VI, King of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King Charles to declare him heir to the French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king henry V"/>
          <p:cNvPicPr/>
          <p:nvPr/>
        </p:nvPicPr>
        <p:blipFill>
          <a:blip r:embed="rId1"/>
          <a:stretch/>
        </p:blipFill>
        <p:spPr>
          <a:xfrm>
            <a:off x="5486400" y="1523880"/>
            <a:ext cx="2895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Henry 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22-14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Henry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king when less than a year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ruler; attacks of ins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thrown by Y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king henry VI"/>
          <p:cNvPicPr/>
          <p:nvPr/>
        </p:nvPicPr>
        <p:blipFill>
          <a:blip r:embed="rId1"/>
          <a:stretch/>
        </p:blipFill>
        <p:spPr>
          <a:xfrm>
            <a:off x="5867280" y="175248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Edward IV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(first YOR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61-1470 then 1471-14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 of Richard, Duke of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War of the R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hrew Henry VI who fled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VI regained the throne in 1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IV regained power in 1471, killed Henry VI, and paved the way for absolute mo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king edward IV"/>
          <p:cNvPicPr/>
          <p:nvPr/>
        </p:nvPicPr>
        <p:blipFill>
          <a:blip r:embed="rId1"/>
          <a:stretch/>
        </p:blipFill>
        <p:spPr>
          <a:xfrm>
            <a:off x="5791320" y="1600200"/>
            <a:ext cx="2819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Edward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Edward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ed” by his uncle, Richard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ward V and his younger brother were locked in the Tower of London and murdered by Richard III’s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king edward V"/>
          <p:cNvPicPr/>
          <p:nvPr/>
        </p:nvPicPr>
        <p:blipFill>
          <a:blip r:embed="rId1"/>
          <a:stretch/>
        </p:blipFill>
        <p:spPr>
          <a:xfrm>
            <a:off x="6553080" y="1828800"/>
            <a:ext cx="167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William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bQ8A5gRe_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66-10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the Conqueror (duke of Norma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ated Harold, the Saxon king, at the Battle of Hastings (A.D.10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ed the Doomsday Book – (the first census) inventoried nearly every piece of property in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william the conqueror"/>
          <p:cNvPicPr/>
          <p:nvPr/>
        </p:nvPicPr>
        <p:blipFill>
          <a:blip r:embed="rId2"/>
          <a:stretch/>
        </p:blipFill>
        <p:spPr>
          <a:xfrm>
            <a:off x="5715000" y="1219320"/>
            <a:ext cx="3048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Richard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83-14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ward V’s un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me king after having his young nephews murdered in the Tower of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king richard III"/>
          <p:cNvPicPr/>
          <p:nvPr/>
        </p:nvPicPr>
        <p:blipFill>
          <a:blip r:embed="rId1"/>
          <a:stretch/>
        </p:blipFill>
        <p:spPr>
          <a:xfrm>
            <a:off x="6095880" y="144792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William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7-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Wm.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t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-hungry and vio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ter quarrels with Roman Catholic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led while hunting; denied Christian bu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william II"/>
          <p:cNvPicPr/>
          <p:nvPr/>
        </p:nvPicPr>
        <p:blipFill>
          <a:blip r:embed="rId1"/>
          <a:stretch/>
        </p:blipFill>
        <p:spPr>
          <a:xfrm>
            <a:off x="5486400" y="160020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Henry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-1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est son of W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axons and Normans by marrying Matilda who was half Sa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Henry’s daughter (Matilda) was next in line for the throne, but Henry’s barons failed to support her after Henry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enry I"/>
          <p:cNvPicPr/>
          <p:nvPr/>
        </p:nvPicPr>
        <p:blipFill>
          <a:blip r:embed="rId1"/>
          <a:stretch/>
        </p:blipFill>
        <p:spPr>
          <a:xfrm>
            <a:off x="5334120" y="1295280"/>
            <a:ext cx="3200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Step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35-11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’s nep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to recognize Henry, Matilda’s son, as his suc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king stephen"/>
          <p:cNvPicPr/>
          <p:nvPr/>
        </p:nvPicPr>
        <p:blipFill>
          <a:blip r:embed="rId1"/>
          <a:stretch/>
        </p:blipFill>
        <p:spPr>
          <a:xfrm>
            <a:off x="5638680" y="137160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Henry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haucer"/>
              </a:rPr>
              <a:t>(first PLANTAGEN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54-1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y I’s grandson – son of Matilda, Henry’s daughter, and Geoffrey Plantage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to: “From the devil we sprang, and to the devil we shall g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trial by 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Thomas a Becket mu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king henry II"/>
          <p:cNvPicPr/>
          <p:nvPr/>
        </p:nvPicPr>
        <p:blipFill>
          <a:blip r:embed="rId1"/>
          <a:stretch/>
        </p:blipFill>
        <p:spPr>
          <a:xfrm>
            <a:off x="5715000" y="1905120"/>
            <a:ext cx="266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rder of Thomas a Be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86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Henry II and Thomas were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lived in luxury and was appointed Chancellor of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162 King Henry appointed Thomas Archbishop of Canterbury in hopes of gaining mo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took his job seriously; refused to take the king’s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ommented, “Won’t someone rid me of this turbulent priest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knights murdered Thomas a Becket while he was praying at Canterbury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thomas a becket"/>
          <p:cNvPicPr/>
          <p:nvPr/>
        </p:nvPicPr>
        <p:blipFill>
          <a:blip r:embed="rId1"/>
          <a:stretch/>
        </p:blipFill>
        <p:spPr>
          <a:xfrm>
            <a:off x="6781680" y="1600200"/>
            <a:ext cx="2057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Richard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89-1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 of Henry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 the Lionhe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t less than 6 months of his 10-year reign i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no real service for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ght in crusades; killed in b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richard I"/>
          <p:cNvPicPr/>
          <p:nvPr/>
        </p:nvPicPr>
        <p:blipFill>
          <a:blip r:embed="rId1"/>
          <a:stretch/>
        </p:blipFill>
        <p:spPr>
          <a:xfrm>
            <a:off x="6181560" y="1600200"/>
            <a:ext cx="2505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ucer"/>
              </a:rPr>
              <a:t>Jo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99-1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est son of Henry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England’s worst king (no other king ever named 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to sign the Magna Carta at Runnymede Me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king john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5880" y="2057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22:55:45Z</dcterms:created>
  <dc:creator>Bishop</dc:creator>
  <dc:description/>
  <dc:language>en-US</dc:language>
  <cp:lastModifiedBy> </cp:lastModifiedBy>
  <dcterms:modified xsi:type="dcterms:W3CDTF">2010-08-30T20:09:16Z</dcterms:modified>
  <cp:revision>9</cp:revision>
  <dc:subject/>
  <dc:title>Medieval Period  </dc:title>
</cp:coreProperties>
</file>